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BBA-06BF-447F-9FD6-5DC1AC499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8717-AFD3-461C-9119-AF47B24B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FF71-0214-490C-827E-DD4CF450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D273-C7DE-4676-8D1F-49D35D76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9395-94D9-4061-A467-4C7F6AECD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D9C2-6414-4625-B627-8935A23D4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883-FE12-4087-96F1-06FBC891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C64-011C-4FC0-8DD1-202699A6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B77-30A4-4C43-85DF-BE1AF5A4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708-9122-47FA-BB7E-EB6C48AE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3EB9-1806-4137-A0C4-1672218A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62F-0FE0-4859-91C4-805CFD59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9319-76B7-48E0-BEF0-76996548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2FFB-F35B-4BE3-88A3-DE6C8C1C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30EE-8A3B-4DAC-8ABD-6F820E9B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5353-8AF9-4485-BFB8-099C23C3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78C0-66E8-4CFF-AF5B-73F70798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9D7-15A1-4011-998D-D160C12E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B62-0C5E-436A-A995-E23B0EA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6D57-8F80-4ACD-AC89-1BE05A64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B70A-731F-4175-AF20-FE784443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66D2-2CA2-4AF9-A9D4-8F7BA0D7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147A-1D03-4323-9C9B-4B8E34C6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2A7-B3A2-4B46-854E-3B9999F1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7E6-487D-447E-8EEE-2F8534FD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3F1-CBE1-4BD8-AC95-CAAF313B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081-E79B-4FCA-ABD0-0CC43C44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B52-A2B2-49B9-BDD4-47B261A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7BD-D97E-44A4-BF91-C8CB7701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B4A-C6C6-4E52-B47E-09B507CA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D988-F420-4D24-86B9-571E0B604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0A98-8B1C-4D50-9D0C-3E356E7F1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What is the PAR process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240" y="6095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r. Marina Stock McIsaac - Arizona State Univer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act_res"/>
          <p:cNvPicPr/>
          <p:nvPr/>
        </p:nvPicPr>
        <p:blipFill>
          <a:blip r:embed="rId1"/>
          <a:stretch/>
        </p:blipFill>
        <p:spPr>
          <a:xfrm>
            <a:off x="2895480" y="2209680"/>
            <a:ext cx="32767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ction Research Cycle </a:t>
            </a:r>
            <a:br>
              <a:rPr sz="44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write this title on top of page ___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problem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What is th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 want to answe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3.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ays to get the answ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892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52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631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eld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mprove 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r understa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From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wer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aginative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what to do to change and impr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. Ac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t ideas into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240336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2477880" cy="1861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/>
          <p:cNvSpPr/>
          <p:nvPr/>
        </p:nvSpPr>
        <p:spPr>
          <a:xfrm>
            <a:off x="11430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                              5.                             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PAR cyc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5" descr="Fig-A"/>
          <p:cNvPicPr/>
          <p:nvPr/>
        </p:nvPicPr>
        <p:blipFill>
          <a:blip r:embed="rId1"/>
          <a:srcRect l="0" t="0" r="0" b="9768"/>
          <a:stretch/>
        </p:blipFill>
        <p:spPr>
          <a:xfrm>
            <a:off x="1523880" y="1600200"/>
            <a:ext cx="645948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2362320" y="5867280"/>
            <a:ext cx="59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6316"/>
                </a:solidFill>
                <a:latin typeface="Arial"/>
              </a:rPr>
              <a:t>From: Yoland Wadsworth </a:t>
            </a:r>
            <a:r>
              <a:rPr b="0" lang="en-US" sz="1600" spc="-1" strike="noStrike">
                <a:solidFill>
                  <a:srgbClr val="2e6316"/>
                </a:solidFill>
                <a:latin typeface="Arial"/>
              </a:rPr>
              <a:t>What is Participatory Action Research? November 199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562720" y="2819520"/>
            <a:ext cx="1904760" cy="1008720"/>
          </a:xfrm>
          <a:prstGeom prst="rect">
            <a:avLst/>
          </a:prstGeom>
          <a:solidFill>
            <a:srgbClr val="e689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&amp; reflect on current sit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562720" y="1523880"/>
            <a:ext cx="1295280" cy="70380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ise a qu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048120" y="1828800"/>
            <a:ext cx="1752480" cy="58068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o seek answ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371600" y="2819520"/>
            <a:ext cx="2971800" cy="105408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eldwork”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nsive seeking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answ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276720" y="4191120"/>
            <a:ext cx="1600200" cy="70380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ion (analys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638680" y="4038480"/>
            <a:ext cx="1752840" cy="70380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 of new 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4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828"/>
                </a:solidFill>
                <a:latin typeface="Times New Roman"/>
              </a:rPr>
              <a:t>How can we get more youth job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d4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828"/>
                </a:solidFill>
                <a:latin typeface="Times New Roman"/>
              </a:rPr>
              <a:t>How do we stop the MBTA from raising pr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d4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828"/>
                </a:solidFill>
                <a:latin typeface="Times New Roman"/>
              </a:rPr>
              <a:t>How can we get sex education into our scho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d4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828"/>
                </a:solidFill>
                <a:latin typeface="Times New Roman"/>
              </a:rPr>
              <a:t>How can we get youth to eat healthi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39732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51316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Video/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Participant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Use of data from publish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065400" y="5943600"/>
            <a:ext cx="4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vantages of Metho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feelings of participant owner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likelihood that data will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nts develop skills and confidence; feel empowe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4470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 successful PAR project needs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ing relationships among members must be develo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about research methods, data collection, and analysis must b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organizational structure to support the work t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iable facilitator to coordinate th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ntent Placeholder 3"/>
          <p:cNvSpPr/>
          <p:nvPr/>
        </p:nvSpPr>
        <p:spPr>
          <a:xfrm>
            <a:off x="304920" y="16765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Guest organizers and I will supply the training.) (YOUR attendance is a MUST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Stro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acilitators will receive extra credit)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8:10:21Z</dcterms:created>
  <dc:creator/>
  <dc:description/>
  <dc:language>en-US</dc:language>
  <cp:lastModifiedBy>Teacher</cp:lastModifiedBy>
  <dcterms:modified xsi:type="dcterms:W3CDTF">2012-01-30T11:14:14Z</dcterms:modified>
  <cp:revision>75</cp:revision>
  <dc:subject/>
  <dc:title>Conducting Research:Proposal for Action Research</dc:title>
</cp:coreProperties>
</file>